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FC15-41F9-4D52-AD7F-C7A8C5AED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745F-7721-487E-B5BA-52113308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298C-4D1C-4AE1-9E55-7F8A35F6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8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ypothesized the existence of a hereditary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CED3-8F18-4AD1-A94E-275C3C48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BE88-D3D1-4F87-9137-2F977058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1249-61DE-4283-A600-5010AAAA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rederick_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bacteriolog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9497-3E01-42A4-A477-E2F8684D0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3A41-58CE-4979-B79F-014569FDE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699C-0415-4D7E-89AB-0CA834552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DDED-00B4-450F-AF63-AC13DBB08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E72D-D52A-4D46-8568-8F964621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69B0-2ACB-43E9-9CDC-F0F3DDF1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3ED4-76FF-4334-A4EF-FB3B8F8B4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2CD8-CBFE-4437-AA16-128814D03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98F2-07BF-4F33-BAE7-EB0A4524D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CA32-60F6-4E21-B7F1-4A3B69AA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E8F-ADCC-4932-9F06-979443395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24E2-9A5C-47E8-A5E1-5DEBF48DE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8177-6743-4831-BCDA-E96B55B3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CECC-A99C-44C7-8F74-3358F00B1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929C-650E-4E5C-BDC1-FF9B2E4E9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C9CB-E05F-43C7-B397-AEF89B7B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853-4368-47CF-80B7-F324B85A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EF6A-A3DF-424E-B35B-EB5C01FE7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6976-6F81-491B-A3DD-A4F140E41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742D-DA4E-4CE1-93D7-AB6A36D7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730-82AD-4423-903E-FF8E23E8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BBD-7F06-4317-83C6-3D8088DE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A83-A5CF-4189-A883-3442481A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E41-A836-4834-BEE1-784224FE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110-55C2-494A-A1BA-07A6E510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E50-B81E-4EF0-9505-A7C4F0EB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2F1-DC5F-4CEB-ADD5-31EEF89F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1BE-C67A-4A67-AA70-CF2F7841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860-8312-4748-9F8B-2A222E7E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F07-5A27-4E2F-9473-DF33763B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DB0-697C-4E5B-902B-B197C56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5A7-58B7-40A9-B322-7AE45E76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0B7F-46EE-4BF4-884B-8C845684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4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5 &amp; 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 (18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3304639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at DNA is the Hereditary Molec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29" descr="friedrich_miescher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n acidic substance with a high concentration of 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lled i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naftb.org/15/animati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140px-Griffithm"/>
          <p:cNvPicPr/>
          <p:nvPr/>
        </p:nvPicPr>
        <p:blipFill>
          <a:blip r:embed="rId1"/>
          <a:stretch/>
        </p:blipFill>
        <p:spPr>
          <a:xfrm>
            <a:off x="2984400" y="1523880"/>
            <a:ext cx="332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ffith experiment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27" descr="75780381407418910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how animation(from Griffith to Avery, McLeod, McCarth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nalc.org/view/16375-Animation-17-A-gene-is-made-of-DNA-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29" descr="FG11_02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14/animations.htm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phagestructure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bacteriophage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NA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HERSHEY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Maurice Wil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imag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 double helix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show show how the image relates to the 3-D shape of DNA: 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-form"/>
          <p:cNvPicPr/>
          <p:nvPr/>
        </p:nvPicPr>
        <p:blipFill>
          <a:blip r:embed="rId1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odel of DNA with a double helix of 2 anti-parallel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naftb.org/dnaftb/19/concept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tructure-of-DNA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ucleotide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image057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rna_and_dna-1cayhm3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polynuc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1 Genetics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&amp;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id &amp; hapl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 - A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5-11-05T20:01:17Z</dcterms:modified>
  <cp:revision>136</cp:revision>
  <dc:subject/>
  <dc:title>Molecular Genetics</dc:title>
</cp:coreProperties>
</file>